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681093"/>
        <c:axId val="76747870"/>
      </c:barChart>
      <c:catAx>
        <c:axId val="466810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47870"/>
        <c:crosses val="autoZero"/>
        <c:auto val="1"/>
        <c:lblAlgn val="ctr"/>
        <c:lblOffset val="100"/>
        <c:noMultiLvlLbl val="0"/>
      </c:catAx>
      <c:valAx>
        <c:axId val="76747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810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C6F6-EBF1-4464-9E42-730A2396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962-592B-4F99-B756-53870DDC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688-A80D-4811-B86D-5D57E850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2703-2EEB-4037-A872-365526BE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49CD-DCCA-4FC7-B7A8-A4F823BA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C954-C313-463E-BBF5-0229898E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E281-A159-4FD4-9D9B-B2510D3B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EAE3-F607-423E-AFBE-EF8EE9AF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79A-E8C7-4AD5-980A-C8AB4C5F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69AD-7925-4B25-B7A2-4C19B3EE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F558-1614-41A1-A799-92A9559A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6261-DF35-4125-9A08-D52BE1D8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E2100-BD77-4241-A755-1DD8D4124B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