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33381"/>
        <c:axId val="25530300"/>
      </c:barChart>
      <c:catAx>
        <c:axId val="71333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530300"/>
        <c:crosses val="autoZero"/>
        <c:auto val="1"/>
        <c:lblAlgn val="ctr"/>
        <c:lblOffset val="100"/>
        <c:noMultiLvlLbl val="0"/>
      </c:catAx>
      <c:valAx>
        <c:axId val="255303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333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1AD8-54BB-4C72-B8C1-08CE77BD5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CEB2-AFA4-4BD6-A4AE-6897029CD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78FB-C87A-4294-830D-01B3F4D38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E0B4-B5AE-4BC1-A18B-82F631BFC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1339-9A1D-4A02-8681-1A14B21C3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2146-8941-4CEB-A211-D637D9171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7855-BF4C-4CD6-9117-9035D07A5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ABEB-2E44-4A74-8704-4DFA86E34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CBCD-02A6-4F32-BFF6-95BAFA044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8C81-2635-4E2E-B8E2-ADB279D1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E58D-7984-4FD7-8B4F-84D03DD8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3964-0C85-4707-A69A-DB00CF12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F2ED29-F729-4013-8F93-4E4EF3D229F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