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99830"/>
        <c:axId val="18828545"/>
      </c:barChart>
      <c:catAx>
        <c:axId val="79099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28545"/>
        <c:crosses val="autoZero"/>
        <c:auto val="1"/>
        <c:lblAlgn val="ctr"/>
        <c:lblOffset val="100"/>
        <c:noMultiLvlLbl val="0"/>
      </c:catAx>
      <c:valAx>
        <c:axId val="18828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99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225-0535-4223-8B05-8DC40CDF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3D8-1A91-43E5-82D8-161494E4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4A4-6A9A-4177-8233-F2AC78A2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658-8422-4079-9F4E-B284EB0B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61D-9392-4388-964E-4EB462BC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A9C-6A5D-4445-AA22-D23DD132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D2B-8A35-4FC7-AADB-E5EA78E2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B19-CF36-4F16-BE6B-8E44AAA3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BBF-0C19-45C7-A62F-18CD82BF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D8B-6E38-4144-ACCA-C961B687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90E-93B5-426B-B381-58A6E52B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273-C394-4510-811E-37586B01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0F024-6A44-4296-8BAC-0418B41FF8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