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93316"/>
        <c:axId val="60589432"/>
      </c:barChart>
      <c:catAx>
        <c:axId val="72593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89432"/>
        <c:crosses val="autoZero"/>
        <c:auto val="1"/>
        <c:lblAlgn val="ctr"/>
        <c:lblOffset val="100"/>
        <c:noMultiLvlLbl val="0"/>
      </c:catAx>
      <c:valAx>
        <c:axId val="60589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93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29F-BBD2-4062-92B2-313F83A6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B4F-6647-47D0-A3BB-004E757B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8BD-9E9F-44BE-BE67-C1C76BBC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C53-38D5-4E87-95BE-0F6DC5A0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1A1-C30C-4A8C-B5C5-21DA5B4F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6F6-29E8-4EE4-9CAF-24267D0C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2B6-085F-460E-8441-2909FF9F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5C1-94FE-4467-BF57-667383E4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A08-075C-4935-A4C3-7FFF6EB1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A3B-9E0F-474F-8726-EA4E19F0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C6C-AC81-4CCF-823F-8DEF59B4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75C-70F7-4660-9BA8-3EE17B7C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F8B5A-1ACF-4DF1-98CC-DDE5412669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