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95178"/>
        <c:axId val="4391414"/>
      </c:barChart>
      <c:catAx>
        <c:axId val="40295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1414"/>
        <c:crosses val="autoZero"/>
        <c:auto val="1"/>
        <c:lblAlgn val="ctr"/>
        <c:lblOffset val="100"/>
        <c:noMultiLvlLbl val="0"/>
      </c:catAx>
      <c:valAx>
        <c:axId val="4391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95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72E-09BF-41A8-ADFB-A17025CD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F86-4C1C-4439-8128-857620A0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757-F2CB-41A2-8C46-F5A8E57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59C-FAC6-4EA1-AED0-949B6B66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CFC-0683-4C45-93D6-3AD8C66A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707-E3D4-490E-ACD7-346F8F73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4DE-E9B6-40DC-AFC7-5DFC2ABA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1FB-1C60-418D-A5F4-C7BC8ED7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E26-08EC-4A20-B2A6-AECD5FE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4A7-B866-412E-8C5E-984793DE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255-86EF-4AC8-8CD1-ED51D5F1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B66-F4EF-4613-88D3-DA619F9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B7FB4-FB04-4DA6-AF85-3C252379C4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