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94966"/>
        <c:axId val="22843061"/>
      </c:barChart>
      <c:catAx>
        <c:axId val="85994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3061"/>
        <c:crosses val="autoZero"/>
        <c:auto val="1"/>
        <c:lblAlgn val="ctr"/>
        <c:lblOffset val="100"/>
        <c:noMultiLvlLbl val="0"/>
      </c:catAx>
      <c:valAx>
        <c:axId val="22843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4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4AE-E244-4342-8D50-D8421635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2E1-BBD1-4CF9-B79C-48871AC2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655-2799-4F63-8915-7EE2B159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D9F-E4B2-4405-AE00-75DAE8D7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1D8-B5CF-4A15-8D09-5BF7F1C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561-8E68-4F56-91D7-4E0CF54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2DC-D762-4882-AA00-8EC831E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A0C-B291-4D55-B1E3-3701BFE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25F-CE26-4981-9224-3EB74F9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901-C33F-473C-9A62-6A978E3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32D-2255-42AE-8776-2470B75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9EE-6A3B-407F-A85B-69D816A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01AD1-E703-4E65-94E2-F0B33A399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