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C28861D-2A83-4142-BB4F-55C7EB5247CE}"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394998C-0152-46DB-AE18-51E67B48829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B1F4679-9D2E-4D22-9BD1-853EA8DC36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DC5E251-DBCE-4300-A6E1-DDC0E7837DD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EB89E87-9D93-465C-9CAB-214B9EB4F7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BCEBA5B-66F3-4037-98FA-2143C09A838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129CE5F-E25F-44A1-B0E3-01C1E5CE949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F3D9C5A-330C-4CD4-9B8D-B65365D0BD9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E69375F-3D0A-46D7-88B5-285B6D3846F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6BD8797-1BF3-480C-B0AC-EDB099F5CE1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FC110C7-CE1A-470D-AFD7-9A5C525DC6F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6B874A3-7BB1-48AC-B121-859A121A6D8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4D65DD9-3F4E-4E8C-9DA1-B763D3D1AA0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7CA9164-1AC4-4542-B793-EF2FBF8364D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E8AFE30-607E-4D82-9FBA-C07B33291D6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2A45CF4-ADED-4F89-833E-FF48EF0897A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24043A1-4C1A-4E58-9F5D-C1C51082CA1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DFEDB00-358A-492E-9039-6DCFE9B5DEE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431C93F-BD57-405D-A6B9-424FF8EEDB6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4A507DB-42DE-4752-8353-8D6585966EE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FB12367-C8B0-4B1D-B763-7C717D0BF84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01A3D70-FAC8-4431-A56B-A50C7F9849A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8C82E1D-D9D1-4BBC-BB5B-A6C2B2A0F03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4A0E8AE-0797-4FC8-B499-83758A76883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D715122-4ACD-4870-91A8-F5433B8E513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F79417-D1AC-44D7-B010-441EF09439B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06E93-0803-45C6-8D90-0913F8508C3D}"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A4080-17A8-451C-9219-86871234342D}"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4EE49F8-1C51-4226-8B75-AFB5D5A7F3CB}"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6ECCBBC-8F8F-4BBA-BBF7-6FF682A5E73D}"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709D419-F297-405E-97B1-032F5DBDF771}"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CFDF415-2577-4884-AFD2-FB956299F6A7}"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F72166F-1DB4-4E92-80C7-820C80C6106C}"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0522137-4E98-485A-A669-5F06A9A2490E}"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AC5B580-5844-427F-B581-F4FF6581A399}"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9A3554E-B74B-4151-9DBE-A7495F34193D}"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7EE73EF-B4EE-457D-9D26-7937DB2C8A4F}"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39D5C08-80C9-4711-8C01-79A000765ED3}"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77A2647-D553-4D29-B03F-E07EE08ED5AF}"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D4C68EB-703C-4C23-A86A-48DECE8EB2BB}"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B8C2394-6F31-4BAE-B1C7-186EAA3A1F47}"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935ADF9-B798-41CC-9B83-14D52A2391A8}"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D0CCD0B-8D89-4ECF-8A39-0A3F352E515F}"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793628F-3E63-4F36-8424-7589701DB32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FA770B9-68CD-4ED5-B2B4-B2FB11462B34}"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25CD9FC-A0CC-490C-A823-0A0E9C5E844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B7D5FF6C-27B9-405E-A3C9-F542DD96AE28}"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8260D2E-B0B9-4BC7-9BE1-6C48D5CBDE00}"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409F18F-CC2A-4556-81CE-E43F5F6348F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874907B-4ADF-4BC3-AF46-149874827F2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E779228-F5A9-45E8-B311-2E90641224EE}"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CFFB0BF-4AF9-4823-8483-D32323A7DE2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EAB70A0-CDF8-4591-8B0A-BD28599FFDD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FB7331B-96B4-4004-AF36-3D7904F8C9E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F903730-D587-439E-BB27-94D65F17ECE8}"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ADB448E-5D77-48A4-BA4A-E048BB46AF2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66548B5-6ADB-4EA9-918A-D3ECA3C9E7A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1B64932-B747-4C0E-8BAD-C9F93F9DBBC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9F9E991-0750-46B8-B528-376942EA83B6}"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858C43C-31C3-404D-91E8-E6B887790BB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AB0426D-1382-40EA-BA6A-344FE705EED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93785C6-C9E2-4B84-8D4F-F3CECCD877A4}"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562772E-D67D-4C5B-941F-2C53BA1F511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026DF4E-D607-47E8-AB57-CB464AB6598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8C3BC33-1B28-4825-9615-D3B2548F12C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13EB53C-7F53-4B0E-911C-6AD6E5FF343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D7B1829-E35B-46ED-8C42-4B2DEF2D09C7}"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C750038-71DA-4ADD-BF5F-0C7D0B9E50CD}"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E02393E-603C-4552-8360-006D81AE7BFF}"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E956842-264A-45EC-8364-AB3210E85ECC}"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ABB4A5A-9219-4293-8353-30DED0164629}"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20B4F01-8833-402B-A3F1-8258E83ADF41}"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1D688E5-D3EC-476A-8F2A-6361E8A131A2}"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779E77E-1AD9-42BF-A8EB-BFAC01343982}"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025364A-CAED-417F-B132-C772BACA8656}"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8A592B5-5D84-4E9D-8631-327B129698E1}"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4BBA4BB-CC43-4BAA-B9FE-468F2805C9EC}"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5F8164F-D2CB-4E13-8372-CD92CC0F1B05}"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4AECE78-0F4D-4877-9F51-B77667ADF04B}"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A5BBDCE-48F9-452E-AD96-A4B37A3994BB}"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D5776B7-EFAF-4D62-B286-A83FF882872F}"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BE1B957-00B3-4471-9DD3-B16F42C0E7DC}"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484E9EC-42A3-4AE8-80B0-3C0BBFB5AED6}"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2BE791D-A8AB-493C-BD63-7A8B843A76DE}"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0EFD10B-2083-4279-BA27-0CDF4A050B66}"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AFBE69B-36E8-4100-BD8F-066766527668}"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649D06D-736D-4FED-94D3-6BAFDA31966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90193B3-72A0-4F96-8895-1B9BCC6CAC97}"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7E8CBBC-1E76-42E0-A217-780A4E57DC92}"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B7B81A6-1741-4AF8-9677-654902344712}"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6DB3DB3-8445-4F58-BC14-4CD70ACBCC8B}"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010FA30-80B8-4FD0-8405-374F2765FB18}"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C907F6B-FE4E-45A9-B9EE-125AF8747B88}"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56328A4-A193-421A-AB0B-BD47C485B7D2}"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FB04300-374A-414A-AF59-B157F423DDB1}"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F78F1D7-3A38-46E1-9ADE-8C51D39056B5}"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CA78007-46B5-4BE8-AEBC-EDE0C6910E67}"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C160B3B-E1C4-4C4C-8EAD-CFF5A5916262}"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895D831-5F2D-4E3E-B9A0-695F111EE40D}"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AA7B390-D91D-411A-B6E3-F0A8DD23A75D}"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505F303-5B6B-4773-9C5C-5A6414BC4B4F}"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C4D082E-ECCB-4C27-821D-8A2842694110}"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11A9DF0-F2E2-499C-83B4-516A7F093088}"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C4F73E9-033A-4F2D-836F-232F373E7F11}"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D2F5907-6BFF-4AB1-A6AA-26260B1BD2D3}"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78CB201-D819-4E25-867D-C5334CF9F7B3}"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B82E6D7-E301-44C5-83F5-2FEF12325D60}"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EB2E856-131A-41BC-8528-962851111ADE}"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158C308-5DE3-4F3C-B47A-FD1BC2F11E5B}"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6100291-C674-4307-B071-C1AF86962EC3}"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C818579-0319-4760-A057-306768A9AA1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3A3A3E8-57FB-4645-8551-ED92CAA25B0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F1205F0-9099-41AC-A567-3A0879A6B1FF}"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C1972F9-15A0-45DF-A5B2-149B59D9D40A}"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663AC7D-ABDB-49C5-9879-7861B59019C7}"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0D66D8D-2A12-450A-82CD-9F3815F2E613}"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2C6B39B-2F7B-4639-8F23-355495D39CF8}"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B47ABAF-8D24-431A-80A1-C5585012EDCC}"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CE8DE36-82EB-4D21-95A9-A63ED2EA78C5}"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290B984-C0D0-468F-93CF-C4B032A59A5A}"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9E4C571-8696-4F5F-ABBE-BBABA37A621A}"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3D5C7B1-204C-484D-A256-F9250F414E29}"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5E0F9710-A291-4F15-B183-25D53C80F239}"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665B1CE-B3E7-477B-B920-1882F4C63A73}"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7451175-62E5-4805-8ABD-272D9DCAFD2D}"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784412B-2DBF-499B-A7EA-FBF4675213AF}"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8E616C0-06D5-49FF-91DA-80834DEC7205}"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A553CB8-5811-48E7-84A0-6AE538E10ADA}"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A4CD9C7-222C-41B1-A6AE-C1A892BB8E5B}"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4BE0D2D-40C5-4ED1-A011-8D5C25A89D7B}"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D5E077D-492D-4A94-9584-1140F9A05E1C}"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E0ADABE-F59F-4846-AC1D-287204292AB4}"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C1C2F67-FE20-48F2-BE08-14CCFA3AD3BF}"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212DDD0-9B9F-4D97-B489-CBEF6DD37656}"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B2E31F3D-3AAF-40A6-AB8C-C98F55545CD6}"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0090419-F04B-42F5-A7CE-9F8D7C34B653}"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3F160BF-0867-43E3-AED3-C45928FD2883}"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3C88023-0753-469A-AC95-DE82A5DC2E29}"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54EA661-2B26-4FBE-B367-FFCCA7062F10}"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B37D0B2-FED3-44D6-A148-E09D529D2B4F}"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