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65715"/>
        <c:axId val="46027822"/>
      </c:barChart>
      <c:catAx>
        <c:axId val="57365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27822"/>
        <c:crosses val="autoZero"/>
        <c:auto val="1"/>
        <c:lblAlgn val="ctr"/>
        <c:lblOffset val="100"/>
        <c:noMultiLvlLbl val="0"/>
      </c:catAx>
      <c:valAx>
        <c:axId val="46027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65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948-94ED-43CD-8D98-0FCB8BC7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FA6-7872-4F6B-AE79-9BCC9F9F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26E-EAC2-4648-821D-A9CD548C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177-B9CC-449D-9B8F-1482007E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00F-D0A0-4876-81AD-6F82D120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701-DB0E-4CAA-B85E-22CC57E9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03C-F68A-46CD-91D1-65892BDF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035-B332-466D-8506-3E9217E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F4A-C1B3-4A7F-9BEF-82FEF114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998-2654-4887-B46E-5BDAF24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143-FD4A-438E-B03B-E0DE83C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434-4741-4313-A2D2-836D2099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21238-5678-4767-9618-3C612EA65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