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68010"/>
        <c:axId val="67674208"/>
      </c:barChart>
      <c:catAx>
        <c:axId val="48268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74208"/>
        <c:crosses val="autoZero"/>
        <c:auto val="1"/>
        <c:lblAlgn val="ctr"/>
        <c:lblOffset val="100"/>
        <c:noMultiLvlLbl val="0"/>
      </c:catAx>
      <c:valAx>
        <c:axId val="67674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8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5B4-41CF-476F-B199-58C17C1A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055-C8DF-4CA3-8E42-F3C7F454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8D2-3122-4FD1-94ED-F9CA3E67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E81-6D92-41F2-8538-4593E5DF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CF2-351F-4D46-8C69-BEA3E5EA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BD8-F459-4535-A686-CEE51008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95B-18C1-45CC-AB26-35EC3037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05C-04A1-4BA9-A5DA-B157F32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2A1-800C-42DF-90F3-73EBCE28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0C8-2C7D-4BC7-819E-FA253375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D0E-4C2D-4050-B328-9547916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734-C482-47FD-97D5-2A92B7ED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5A505-4A5D-44D3-9F0F-FD9CFF1A30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