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94242"/>
        <c:axId val="79101053"/>
      </c:barChart>
      <c:catAx>
        <c:axId val="57294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01053"/>
        <c:crosses val="autoZero"/>
        <c:auto val="1"/>
        <c:lblAlgn val="ctr"/>
        <c:lblOffset val="100"/>
        <c:noMultiLvlLbl val="0"/>
      </c:catAx>
      <c:valAx>
        <c:axId val="79101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94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1AD-FA2E-43D9-90B3-33C09CDA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41C6-31C0-44B7-B654-7E2D45B0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1380-4090-4BD1-86C4-005F8D54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1AAD-60B4-4456-AA0A-28DD135C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67CE-575C-43D7-8B25-510B3FE0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006A-FA52-434B-837C-5A69FC72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279C-151C-49CA-9BEB-984F16EA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174C-B084-4097-A20B-1AFA8FF2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FE2D-4795-48AC-86E5-9572CC22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91DB-64C4-4BA5-8F7D-C6D45C88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77F3-81F4-4BA1-9E20-F34F669E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307-FAB2-4A98-944B-09640A40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F338C-ACF6-40E1-91D6-EBC5E30932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