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835"/>
        <c:axId val="34510118"/>
      </c:barChart>
      <c:catAx>
        <c:axId val="2039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0118"/>
        <c:crosses val="autoZero"/>
        <c:auto val="1"/>
        <c:lblAlgn val="ctr"/>
        <c:lblOffset val="100"/>
        <c:noMultiLvlLbl val="0"/>
      </c:catAx>
      <c:valAx>
        <c:axId val="34510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686-A5A5-463F-8F47-252B5B48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626-A643-4B62-B5DA-C873228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F02-5A70-41D2-874D-659B2D7A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70D-4E99-4AD1-96B4-92570BB1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492-739B-482F-9EDA-698A386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5FC-AC3B-4ED3-B76E-81F4112A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B5F-821D-4C98-B822-A687127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EC0-96D6-4776-8B75-E3231F07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B61-CF09-4A55-96B4-D136F6C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CEF-B8D4-4498-A9DA-CF2C603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B55-378F-4825-8AE4-F5F7FE3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F03-BDE4-42E9-BDEC-DC5CF7A1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6011-EFBC-4EF1-AC3A-4977E21FBD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