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743837"/>
        <c:axId val="52172126"/>
      </c:barChart>
      <c:catAx>
        <c:axId val="837438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172126"/>
        <c:crosses val="autoZero"/>
        <c:auto val="1"/>
        <c:lblAlgn val="ctr"/>
        <c:lblOffset val="100"/>
        <c:noMultiLvlLbl val="0"/>
      </c:catAx>
      <c:valAx>
        <c:axId val="521721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7438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C199-6E40-437F-A1C9-F9840862F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866F-404E-4BAA-B123-CF6FBEFA5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C1BC-E4CF-43A1-8295-F7F43358A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6B4D-F903-4071-8ABA-5F33C6800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BD44-4DBB-4C27-842A-76BB768DB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C950-4B38-433E-9EC7-DE51756DE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F4E2-293D-4A79-BA87-73C025F96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839B-0E4E-4622-A6F4-F4446D6F6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7BC4-8618-497F-8866-BA63723E6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F036-5645-4887-8B83-8FD957BE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8568-7487-46E0-8BB0-406FB95A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9616-D249-49B2-A7EA-8A225A53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542933-3F3B-415F-BEC6-0A793FB02A6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