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93913"/>
        <c:axId val="94047194"/>
      </c:barChart>
      <c:catAx>
        <c:axId val="71393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47194"/>
        <c:crosses val="autoZero"/>
        <c:auto val="1"/>
        <c:lblAlgn val="ctr"/>
        <c:lblOffset val="100"/>
        <c:noMultiLvlLbl val="0"/>
      </c:catAx>
      <c:valAx>
        <c:axId val="94047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93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4D0C-784E-44E9-8D32-44C319B5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AE3-4884-4EE8-A807-FF02CAB9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92C-708B-46B5-943D-78A119EC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29E-7A3F-4749-B570-FF75801F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90D-14C5-4987-B8D7-11DF03E9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F21-AC9C-4E23-B41C-23031267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717-F41E-492C-BE4F-6CD3380D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A4D-9B25-44FF-B466-151DD645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179-8098-4D3C-BD79-8B1279A9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2F4-E9E1-46BA-84F2-18C2F885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6DA-0E0B-4B37-AB00-4C1ECA72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486-1AA1-418C-80E3-E054497A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B0924-9BC5-4DD8-A240-B03E522B8B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