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21608"/>
        <c:axId val="38771537"/>
      </c:barChart>
      <c:catAx>
        <c:axId val="77721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71537"/>
        <c:crosses val="autoZero"/>
        <c:auto val="1"/>
        <c:lblAlgn val="ctr"/>
        <c:lblOffset val="100"/>
        <c:noMultiLvlLbl val="0"/>
      </c:catAx>
      <c:valAx>
        <c:axId val="38771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21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62FC-109A-47E2-BD89-9184BBF7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3367-6DE1-43D2-85A4-0EC7DF7A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F7FB-9CBF-4706-899A-2FF0986E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B6C3-AEC2-4E27-B036-AA1216D0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F48-36FF-4F23-AE47-FFC1BC42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BF4-7567-42E5-B5B0-AA5CE780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679B-B5B3-4450-A80D-F7A291DB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0A84-39D4-4145-A091-BE376DBD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644-51EB-4FDC-962A-39CDCFA2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03DB-0BB7-4756-8AD5-9459D9E5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08E6-9821-4018-BF6A-96F33B6F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2A9-E567-43A9-BB81-6E1875B7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45CB5-290E-45DA-B3EB-31D2EB1026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