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84260"/>
        <c:axId val="60509145"/>
      </c:barChart>
      <c:catAx>
        <c:axId val="59884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09145"/>
        <c:crosses val="autoZero"/>
        <c:auto val="1"/>
        <c:lblAlgn val="ctr"/>
        <c:lblOffset val="100"/>
        <c:noMultiLvlLbl val="0"/>
      </c:catAx>
      <c:valAx>
        <c:axId val="60509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84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716-FD24-48FB-B779-ED9739EB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D9C-987A-4577-94F5-A5C843B7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65C-2CC6-4EFA-8954-7D8A277F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E56-040C-434B-AD4E-D5A1A4D5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6C6-5C44-4E6B-941D-D6EC9F1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5B5-CFD5-4193-A235-D362F1E0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4D7-21E5-4B9F-8963-52636568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021-3272-4E87-B397-D9B84C20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266-9D13-49E1-A90F-05B8F8B9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2DE-B607-493C-9DC1-7A46E516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E07-3E17-4910-85AD-FEA38DAF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55D-DD18-45AC-BE86-2E9D7B56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E8825-F70A-47A8-980B-785134722D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