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47288"/>
        <c:axId val="22525786"/>
      </c:barChart>
      <c:catAx>
        <c:axId val="23547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25786"/>
        <c:crosses val="autoZero"/>
        <c:auto val="1"/>
        <c:lblAlgn val="ctr"/>
        <c:lblOffset val="100"/>
        <c:noMultiLvlLbl val="0"/>
      </c:catAx>
      <c:valAx>
        <c:axId val="22525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47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C1B-7FA1-4FB5-BA06-B10BE235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764-AACA-4736-88C4-0009A606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6D8-F093-43C9-92C2-95FA3DF3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39A-8078-4792-A360-A786471C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CC5-C417-44DC-B030-E58CCFAC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E99-5CDA-4DE9-851B-9C0FC1D5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BB0-93B8-40D1-B9E7-E66A5CEF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D3E-FB05-44A7-B577-2D28EEB3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1AF-C22A-403C-9C05-62727EAF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4DB-5A0E-41A5-8BAC-70F3A362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5C2-FCA4-4993-AE19-55A5FE7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003-BC22-4ED4-8127-B2CCC0BD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3A210-5437-42A3-9E19-6FDB661932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