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89669"/>
        <c:axId val="70967368"/>
      </c:barChart>
      <c:catAx>
        <c:axId val="20889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67368"/>
        <c:crosses val="autoZero"/>
        <c:auto val="1"/>
        <c:lblAlgn val="ctr"/>
        <c:lblOffset val="100"/>
        <c:noMultiLvlLbl val="0"/>
      </c:catAx>
      <c:valAx>
        <c:axId val="70967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89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FBE-BF14-48E2-A743-DE7C65A4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D49-38B3-4639-8C45-0394CF7E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763-59E9-4AF5-AC0A-906B1684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971-A824-401E-8331-8E95E859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36E-116D-498D-A6DF-DAA961BD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79C-944E-4BFF-BB0D-DADC4D24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696-C4B1-4738-ADF8-13A72D07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FCD-2DD1-427C-B9AC-6EBEFB05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B72-3547-44CE-8B2F-5F6362EC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F22-03CA-409F-839E-9BEFC2B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30E-4DE9-472B-8283-006F3E1F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D3F-7B9B-45C8-B6C4-764B927D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630D9-B6ED-4B2C-885B-4FF426384B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