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28004"/>
        <c:axId val="7080462"/>
      </c:barChart>
      <c:catAx>
        <c:axId val="88928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0462"/>
        <c:crosses val="autoZero"/>
        <c:auto val="1"/>
        <c:lblAlgn val="ctr"/>
        <c:lblOffset val="100"/>
        <c:noMultiLvlLbl val="0"/>
      </c:catAx>
      <c:valAx>
        <c:axId val="7080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28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D92-F83C-4EFD-B79D-24DC956F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9BC-C9D2-436C-A3E5-B8427949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A08-A9E0-4F1D-BA77-1249F86A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C6F-16B0-4685-9DF5-2AFE2B8E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E52-FF06-4772-B780-25D32F57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68E-D53E-4394-8DBE-3255BF9C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780-9C6E-4C79-97E8-96048FA7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CEF-96AB-4DA8-ADF0-F36FFF62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6DE-671E-4A1F-95DC-10E9B448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A6F-555C-4ACA-BF10-C79AB010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BD8-4E72-446C-9DCF-3CCABCC8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189-9FC9-447F-9558-FA7B254A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F5474-41DC-41BA-8C8D-AA6F1FD091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