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970260"/>
        <c:axId val="68322724"/>
      </c:barChart>
      <c:catAx>
        <c:axId val="919702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322724"/>
        <c:crosses val="autoZero"/>
        <c:auto val="1"/>
        <c:lblAlgn val="ctr"/>
        <c:lblOffset val="100"/>
        <c:noMultiLvlLbl val="0"/>
      </c:catAx>
      <c:valAx>
        <c:axId val="683227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9702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CBA4-0A45-4223-9D7A-8F0B67AAC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14F9-0754-4E67-BF38-1EB557D1D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BD8C-A776-42C0-A5A8-E71EDA5CA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A4CA-CCE0-4652-85D2-7823661C3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CD45-3054-460B-86A0-C1F735ED5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59A1-682A-4DE4-A093-33B25FBFD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EC01-8EFE-4530-8ED8-5B21E58A2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755C-977E-444E-A1DB-4DCF51698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2A97-FC5E-4D53-84B6-F03DE20B4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E16C-3B5F-4842-9B70-2422393E9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6788-24E2-47A0-B35D-9CECA72CF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650C-54AA-4A3F-8D82-6840FAA8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E5C894-714B-4A88-8A61-884E0663DB3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