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49677"/>
        <c:axId val="74232543"/>
      </c:barChart>
      <c:catAx>
        <c:axId val="30249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32543"/>
        <c:crosses val="autoZero"/>
        <c:auto val="1"/>
        <c:lblAlgn val="ctr"/>
        <c:lblOffset val="100"/>
        <c:noMultiLvlLbl val="0"/>
      </c:catAx>
      <c:valAx>
        <c:axId val="74232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9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4D0-C1F9-4792-8D20-06CAB958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FF5-FD2C-451F-8BD9-F5DCEBCF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BE1-AB51-407C-843D-7996B315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A23-DE96-4079-9282-73139E10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920-A3C1-4131-A413-7F1245C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B69-FFD6-4D4B-B031-DD2F4D0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074-37CF-445A-84D5-4B06987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942-AE69-4529-99CD-5B54D1B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1B9-F637-429B-BF48-5814F945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285-BFB3-4897-94FD-FDF12C9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FE4-51F7-4277-8054-5491D2A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0E5-524E-4E4F-A00A-63F62C78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ABF78-E075-4C45-9D00-A2FBB8472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