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25593"/>
        <c:axId val="24373828"/>
      </c:barChart>
      <c:catAx>
        <c:axId val="21325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3828"/>
        <c:crosses val="autoZero"/>
        <c:auto val="1"/>
        <c:lblAlgn val="ctr"/>
        <c:lblOffset val="100"/>
        <c:noMultiLvlLbl val="0"/>
      </c:catAx>
      <c:valAx>
        <c:axId val="24373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25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B9A5-5846-4BD8-9B2F-463AA991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C5C-BAF3-40D0-B80E-B4C6BA40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67D0-9FF3-4A21-9D18-C3355B1A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534-D521-4ECF-97BF-3EE4010A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FAA-430C-476E-B8A7-9014BD08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4E5-00D5-46AD-9E31-484A87F0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C6A-9E47-46B7-B1BE-0BC0874A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A01-8E2B-4BCA-B279-F57E36C2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CFC-0A54-446A-8129-470DA730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495-E2B7-4F48-84A7-6ACE072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DDA-A430-441E-9A65-7114F88F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F70-C0E3-4CEA-AC6C-53C4DC64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99FE1-C4A1-4D72-AAFB-D1BD4F62D2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