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06414"/>
        <c:axId val="66065927"/>
      </c:barChart>
      <c:catAx>
        <c:axId val="61306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65927"/>
        <c:crosses val="autoZero"/>
        <c:auto val="1"/>
        <c:lblAlgn val="ctr"/>
        <c:lblOffset val="100"/>
        <c:noMultiLvlLbl val="0"/>
      </c:catAx>
      <c:valAx>
        <c:axId val="66065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06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89D-EB7A-4ED3-BA6A-E5E922CF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4C9-B850-4E86-9978-935EDA86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C60-7857-4327-BDE0-A56B3AB0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99E-A4D8-4613-AFEC-C4A06C95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06A-5BD4-4C7E-9B80-F5A169EB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684-7E54-4377-B1A9-CDD19EFE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EC0-FFBA-47CA-ADC7-2315A670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969-D2C6-4422-A0DE-0E62E17F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01E-DD6C-4120-8658-4A2B2EDF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096-EDAD-469C-A634-1601BA46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13F-7995-4176-8181-6D871E9B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FD7-D93B-46A1-AA49-0B4D178F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18124-3191-4076-8BB8-5AFB7483E2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