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616651"/>
        <c:axId val="37927569"/>
      </c:barChart>
      <c:catAx>
        <c:axId val="656166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27569"/>
        <c:crosses val="autoZero"/>
        <c:auto val="1"/>
        <c:lblAlgn val="ctr"/>
        <c:lblOffset val="100"/>
        <c:noMultiLvlLbl val="0"/>
      </c:catAx>
      <c:valAx>
        <c:axId val="379275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166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BD6F-CDC3-4623-B266-20E194DB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B5D4-B470-4E14-818E-28B0A1B5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AEBB-208C-4BF1-B59D-AD794FFF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2C7A-8016-4F11-8C25-895DA17D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6B5F-905A-44C5-8494-73FB984C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4F14-D159-4B01-8404-04806E2A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0AD0-0802-4380-B747-367BDE4B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5387-04EA-4437-88DF-F65BC7AB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B873-39A4-4177-ACAD-D5411192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08FE-E6A2-49FE-9DFD-B32540E1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80E9-A8DE-440E-98F4-98721DA2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FC13-770E-4F75-8F6D-3347186C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DC9DA-500B-4298-A5C0-A61A64CE9E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