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88434"/>
        <c:axId val="27521711"/>
      </c:barChart>
      <c:catAx>
        <c:axId val="27688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21711"/>
        <c:crosses val="autoZero"/>
        <c:auto val="1"/>
        <c:lblAlgn val="ctr"/>
        <c:lblOffset val="100"/>
        <c:noMultiLvlLbl val="0"/>
      </c:catAx>
      <c:valAx>
        <c:axId val="27521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8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1C6-387C-40FC-A507-66625540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7BE-82E1-4320-92B8-1EF2331B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209-5D02-4C2F-AAFE-C82A5479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E99-C2DF-4B5F-B0F7-DAFC7486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A4F-50DE-4A02-B056-4654A44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EC5-BC71-45F0-A745-FD0B4A2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B14-D157-4F1D-93DE-4BFA652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20C-254C-4B39-A66E-D770EB0F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88D-88EC-4469-9A65-D7CFDE4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A5B-00F0-481B-B8D2-D8BABBE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A05-FD77-455E-97B9-E59594F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5F6-0A01-4DFA-8575-A0440A2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E3A5A-41F3-4849-B253-4D2EDC4DA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