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78623"/>
        <c:axId val="445545"/>
      </c:barChart>
      <c:catAx>
        <c:axId val="77078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545"/>
        <c:crosses val="autoZero"/>
        <c:auto val="1"/>
        <c:lblAlgn val="ctr"/>
        <c:lblOffset val="100"/>
        <c:noMultiLvlLbl val="0"/>
      </c:catAx>
      <c:valAx>
        <c:axId val="445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8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B3E-4E5E-4CFB-9E99-39E98786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E5E-BE82-4522-A2A3-92333912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F90-FD02-42E2-864F-A1328CCB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23F-B438-4446-B427-4D15D75B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211-B859-43D8-B565-CE969E6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296-67F3-40F3-B44D-3E906A4A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6B7-584D-4F70-8200-C2F4F259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825-7930-424B-8504-FE8D2B72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347-5B42-43A2-9F43-489B5C2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062-8EF0-4444-9EF7-CD9DF389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8DF-C8F1-4F59-94AF-CBD3F35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051-F92C-44EA-8366-A95F687A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52E9F-0C7F-47DF-8567-8039CC93D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