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1984"/>
        <c:axId val="93351305"/>
      </c:barChart>
      <c:catAx>
        <c:axId val="89919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51305"/>
        <c:crosses val="autoZero"/>
        <c:auto val="1"/>
        <c:lblAlgn val="ctr"/>
        <c:lblOffset val="100"/>
        <c:noMultiLvlLbl val="0"/>
      </c:catAx>
      <c:valAx>
        <c:axId val="93351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19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7EB4-E688-41C5-A823-023964CC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49A-B737-4FE1-A80A-63C36446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625-E960-4D43-97AA-52DBBD56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CD2-1A6C-4681-A2BC-87F2E241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58D-DF95-48C6-A8D4-60123339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07D-2883-46F7-8A3E-2070E29B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681-805D-4495-B848-3A721DFD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F3A-7DCC-4249-95B9-EC9632A2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A0B-AB15-4ED1-9D37-3AB127B3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7399-365C-41A2-AC4C-C4A981F7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6C04-DD86-466D-849F-178C0B48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F60B-D059-4BE4-8AC0-44E0FC63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9EC81-6892-46B7-BFC5-0F814BDC7F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