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06169"/>
        <c:axId val="23814208"/>
      </c:barChart>
      <c:catAx>
        <c:axId val="69006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4208"/>
        <c:crosses val="autoZero"/>
        <c:auto val="1"/>
        <c:lblAlgn val="ctr"/>
        <c:lblOffset val="100"/>
        <c:noMultiLvlLbl val="0"/>
      </c:catAx>
      <c:valAx>
        <c:axId val="23814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6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0FF-9652-434E-9350-B767D63C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794-A885-435B-B272-A59A57E5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CB0-EAFB-4249-BDFC-DEB9A30E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32A-1796-4C68-A785-37BC8D9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FC4-19BF-4030-9D91-E1CEC72A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C9E-0C58-4ECE-BB20-77DAE6D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E8C-9AF4-493A-AE8D-B790D90B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CC2-A5AC-491F-8C25-A8E5BF9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D06-C021-408C-93AB-B87C91AA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7A5-657E-44D8-B08A-FD16CC8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0EF-E0E3-44EB-8F0B-71D7152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BBF-A616-4757-859D-20D19A2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74245-F904-40E2-938C-7C4107BA3A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