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9074"/>
        <c:axId val="8834034"/>
      </c:barChart>
      <c:catAx>
        <c:axId val="76790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4034"/>
        <c:crosses val="autoZero"/>
        <c:auto val="1"/>
        <c:lblAlgn val="ctr"/>
        <c:lblOffset val="100"/>
        <c:noMultiLvlLbl val="0"/>
      </c:catAx>
      <c:valAx>
        <c:axId val="88340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90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2CC1-F330-4823-AC3A-A2D64A6B9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E45E-E8F7-4EEA-A588-D58085C94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71EA-D3F6-4B8F-AF77-66F2952B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FC01-9B88-462E-BD48-345A7AB8A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604C-4D8D-4D44-A581-2A502915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A6A0-2481-472E-AADD-2A6057DA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F84B-E747-4075-BD93-E60BE360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DFC3-2736-4D7B-9D1E-BE832CF4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820-C4FC-4F09-B354-AE8DCDCFB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981-80AC-40B9-AAB9-5506D082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51C-5148-4FD1-BCEB-D8C6D725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22E-66C7-4190-B625-8D86C621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51EE2A-9500-4BF7-BCE3-C87D385B5D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