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804724"/>
        <c:axId val="36883171"/>
      </c:barChart>
      <c:catAx>
        <c:axId val="258047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883171"/>
        <c:crosses val="autoZero"/>
        <c:auto val="1"/>
        <c:lblAlgn val="ctr"/>
        <c:lblOffset val="100"/>
        <c:noMultiLvlLbl val="0"/>
      </c:catAx>
      <c:valAx>
        <c:axId val="368831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8047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9E99-B5FA-4D3B-BA08-1DB8D6609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1D0AC-E90B-4EE4-8FD3-FE282BFC3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FAAB-A43D-4A99-831A-563B464D9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98422-16F2-45E4-84DA-C44CF76E9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B23C-E9FA-4598-8713-E654315D1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FF68-85EA-4A49-B381-900A272F2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FB95-6151-4AD2-8E9F-478B85D85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1381-FAB2-4245-8363-E75411985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9AB1-9474-4C77-9E2D-393809C0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4C64A-9128-4119-98C0-CEB866FE4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073E-BCF0-4AE2-A674-9B6B8905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9CF9-410B-4521-A215-DC9527AF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E0A885-45FB-42CC-9DFC-BF83F12A40D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