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35789"/>
        <c:axId val="35417627"/>
      </c:barChart>
      <c:catAx>
        <c:axId val="61935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17627"/>
        <c:crosses val="autoZero"/>
        <c:auto val="1"/>
        <c:lblAlgn val="ctr"/>
        <c:lblOffset val="100"/>
        <c:noMultiLvlLbl val="0"/>
      </c:catAx>
      <c:valAx>
        <c:axId val="35417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35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5D6-C475-462C-9D0E-DF027FB8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CD4-9E81-4898-8CDC-E696B0D0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4C6-5DCF-47F3-AFDB-A5AAD35B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3F0-3A70-4A62-B822-3DCC9A34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3EF-03F1-43FD-B4A4-4DF5B2A6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211-9A11-4026-AF6D-C0A93AE9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714-34AD-4B2D-93BA-A889A884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AE1-3869-43F4-8230-AA2E9788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D06-3317-4875-8B15-ACBA792B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942-D601-47F0-BF26-7A68726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175-8753-450E-BB78-9723968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EC6-8DEF-4564-A781-E1FA6856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D4F3E-39DD-4C3B-99D5-DA7AF75326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