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351668"/>
        <c:axId val="5335552"/>
      </c:barChart>
      <c:catAx>
        <c:axId val="553516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35552"/>
        <c:crosses val="autoZero"/>
        <c:auto val="1"/>
        <c:lblAlgn val="ctr"/>
        <c:lblOffset val="100"/>
        <c:noMultiLvlLbl val="0"/>
      </c:catAx>
      <c:valAx>
        <c:axId val="53355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3516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FFBA-9A5B-41E9-BBBB-04531E155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40B1-42F9-4DDE-81C4-ECBE3D5ED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8EE7-7301-4F42-B727-699C701DD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4913-F816-4A4A-A584-E14B3B770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548B-2349-457F-92E4-1582F46A7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26A3-FBD6-4F83-B9B3-500B03F3A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A7D2-02B3-4DE5-9BA4-94753DD2D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EB59-DA46-4CFC-B8B3-17E1B3882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699C-1F7B-49E5-B339-FBC1A1F67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71C8-87A7-463C-BF36-0D43EE47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7CD1-FCDB-4D4F-B367-DAA89607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9EFA-D7BA-454C-A91E-BFD28A00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1B314B-B7AD-47C4-B1AB-171AE8CBCBD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