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70639"/>
        <c:axId val="60539070"/>
      </c:barChart>
      <c:catAx>
        <c:axId val="87970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39070"/>
        <c:crosses val="autoZero"/>
        <c:auto val="1"/>
        <c:lblAlgn val="ctr"/>
        <c:lblOffset val="100"/>
        <c:noMultiLvlLbl val="0"/>
      </c:catAx>
      <c:valAx>
        <c:axId val="60539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70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91E-38BC-47EC-B502-02FDEEFB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9B5-803F-4D7D-8C7F-1DD8A47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007-0B75-4B29-9ED3-2F71C4A6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82E-9D83-4CCC-9A9E-7903EE38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ACA-D8E0-4DE5-A87D-8DD3720C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523-1D0B-4B2D-96C4-3EC7E6F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C28-A17D-4FF6-ABDA-D6F3EBE1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D83-A53F-429E-A094-8C599FC1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74D-8025-4A1D-97BC-9F990FB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612-9DDE-4B90-9E1C-51F43E6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26D-AADE-4094-A3CD-2F7398F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351-A707-46F5-8BE4-934E5CFC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D831B-9451-4ADB-A6BD-90FEAEAB24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