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19623"/>
        <c:axId val="94619290"/>
      </c:barChart>
      <c:catAx>
        <c:axId val="85219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19290"/>
        <c:crosses val="autoZero"/>
        <c:auto val="1"/>
        <c:lblAlgn val="ctr"/>
        <c:lblOffset val="100"/>
        <c:noMultiLvlLbl val="0"/>
      </c:catAx>
      <c:valAx>
        <c:axId val="94619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9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F73-1680-47A3-AD08-56F169B5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2A7-68A9-4E8A-8C29-E59353BA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172-C856-49D1-A256-0ADF89BF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9BF-12C3-4FCA-890D-4530DCB6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4A2-5FB3-4739-829B-0564DE3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117-127A-4F9A-8B44-25B1677C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31E-D57E-408A-BDDD-2494D945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223-5062-4521-B3E9-697A110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B7A-0850-40BD-BEDD-4590F126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ED3-399B-42DA-B32F-49CF556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EEC-3B5F-4206-BD1B-AAECE73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419-0747-4016-9AAB-8C75BBE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C4DBC-2185-4A21-8BC4-8AE05310D1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