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810982"/>
        <c:axId val="20703420"/>
      </c:barChart>
      <c:catAx>
        <c:axId val="998109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03420"/>
        <c:crosses val="autoZero"/>
        <c:auto val="1"/>
        <c:lblAlgn val="ctr"/>
        <c:lblOffset val="100"/>
        <c:noMultiLvlLbl val="0"/>
      </c:catAx>
      <c:valAx>
        <c:axId val="20703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109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09F3-49DE-4546-B421-C0D6FFF7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C47-75FB-4CB9-AD63-32D0CF1E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F21-197A-4BB6-A8F7-D40F0692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CE8-F8C4-47E9-AA40-7BF36909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75B-61B2-4727-8024-4DF41813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D1D-F635-4439-B13A-1718115E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DDE-A03F-4982-B8E9-86239647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2435-9222-465D-BD93-9E01F28D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0091-C12C-4C18-9369-D090ED17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435-19B6-4FC8-AA38-6DFAE9C0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9DD-99BF-4EA3-8160-6CA5F13E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DBBF-46B2-4AB8-8771-CEFE1E8C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83DFD-DF34-44B4-9EA0-7DA7E0D3CE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