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69831"/>
        <c:axId val="52317665"/>
      </c:barChart>
      <c:catAx>
        <c:axId val="54169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17665"/>
        <c:crosses val="autoZero"/>
        <c:auto val="1"/>
        <c:lblAlgn val="ctr"/>
        <c:lblOffset val="100"/>
        <c:noMultiLvlLbl val="0"/>
      </c:catAx>
      <c:valAx>
        <c:axId val="52317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69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407-D52A-4BA2-9CF3-4B24DB7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642-D9B6-428F-BD7B-AA1733D0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F7D-9401-4A76-B91D-4F2316D2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028-1DDB-47EF-8A9E-2F63AE85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BA8-4E57-44BF-BFB5-A98B447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2CC-6CCE-46C0-88B6-81B21EB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949-38DD-457E-A235-052DE17F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B53-9FDD-47A1-BA01-2A2AF7B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40C-4FBB-49A2-95D5-57DA324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273-FBC0-4547-8F04-9ADFF8BC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163-E7F2-400B-B3E8-53747C8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F2C-654E-4A03-BDAD-4A31E95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8C8C6-B968-47F2-AFE5-DB7C96A59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