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27271"/>
        <c:axId val="69132997"/>
      </c:barChart>
      <c:catAx>
        <c:axId val="60827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2997"/>
        <c:crosses val="autoZero"/>
        <c:auto val="1"/>
        <c:lblAlgn val="ctr"/>
        <c:lblOffset val="100"/>
        <c:noMultiLvlLbl val="0"/>
      </c:catAx>
      <c:valAx>
        <c:axId val="69132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27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FAE-9F79-4773-B1CB-9309A7C1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24E-ED47-4ED3-A902-A6089440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554-5D1D-4289-AFD8-474DC6F0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E29-04DC-409D-8C6F-FDA73CC1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EB0-8475-4E50-965B-D3677B3A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B7B-6C03-44D5-B962-99D80479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202-DA4C-4E5D-BEB9-5ED0F592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7A8-6F50-4D56-BA21-D0ED9016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007-E37B-4A9E-AB20-C8545449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83A-A975-4073-A48A-1FA38CC8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12A-4095-47A7-A109-56F9F842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4A7-5884-40E7-8F6F-94A01DC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E863B-B871-4BED-B228-734648F69D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