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87799"/>
        <c:axId val="56723576"/>
      </c:barChart>
      <c:catAx>
        <c:axId val="84387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23576"/>
        <c:crosses val="autoZero"/>
        <c:auto val="1"/>
        <c:lblAlgn val="ctr"/>
        <c:lblOffset val="100"/>
        <c:noMultiLvlLbl val="0"/>
      </c:catAx>
      <c:valAx>
        <c:axId val="56723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7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D12-42D5-43B1-A490-F387357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A82-C7E5-4218-A578-7A59C7D3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88B-7C55-4E7B-B05E-53911A38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7E1-3D93-48AD-B428-4F158371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D07-7318-48D3-9868-124D568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90D-0DD5-4A7D-8799-55A9974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C37-71D8-4C5A-A910-C97776A3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9F3-29A6-47F3-A248-98F596F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0A6-E0DF-4886-AA1F-5CEF2479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4CA-3F6F-4629-9491-6660944E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439-EA94-4F2F-9427-D189843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98A-928F-49C7-AD58-F64615E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75BA-6A6F-43F1-A34C-D0CAEB879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