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71763"/>
        <c:axId val="52416871"/>
      </c:barChart>
      <c:catAx>
        <c:axId val="41171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16871"/>
        <c:crosses val="autoZero"/>
        <c:auto val="1"/>
        <c:lblAlgn val="ctr"/>
        <c:lblOffset val="100"/>
        <c:noMultiLvlLbl val="0"/>
      </c:catAx>
      <c:valAx>
        <c:axId val="52416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71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034-F97F-413B-8973-D514713E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799-C786-41CF-BD9A-EF213E75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184-8E20-465A-9086-27ED6FA6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26D-592A-4F9A-AAB8-096A6A5E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587-030F-49F0-80D3-893429DE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052-34D1-44A1-8383-51D02B4F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E08-CB81-47E7-8FDE-CE1B1776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23D-7C36-4D2F-83AE-25F8599C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E09-7A31-4B00-9D18-12FB6948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109-872A-4E73-B7A1-CE5F55A2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F79-A7D0-4D96-98D4-C8DE8AB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48C-01BF-45C2-9242-DC6C15E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1D211-9DD7-4AA9-86BA-75EF894A18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