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843579"/>
        <c:axId val="18363070"/>
      </c:barChart>
      <c:catAx>
        <c:axId val="884357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363070"/>
        <c:crosses val="autoZero"/>
        <c:auto val="1"/>
        <c:lblAlgn val="ctr"/>
        <c:lblOffset val="100"/>
        <c:noMultiLvlLbl val="0"/>
      </c:catAx>
      <c:valAx>
        <c:axId val="1836307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84357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5FE80-8AA6-4C78-B47E-DBD7881FA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39B8F-93D2-45DB-A9CE-AA75E1DE6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6DA95-8BF5-45CD-BA13-E4585A2C5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C45FD-AE3F-4CA3-B7F6-03DCA26EE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21E4A-F633-45CE-87F4-AC657FDEB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88935-8E7F-4190-A675-3D450B897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D7679-9655-4F98-9945-EEB5D26F3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CB15C-694A-48BE-B3BA-FF48DCC73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B9922-2459-4A3C-AD9E-828DF92A2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DC54B-D866-4392-BEDB-E92B9321D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E9BB6-C638-4AF3-B0FF-2E5F4F151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7DEB0-5B3E-4C8D-A6D1-9E2B0763E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879D77-D4DC-4FC4-93C0-5C899D65423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