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2913"/>
        <c:axId val="53342845"/>
      </c:barChart>
      <c:catAx>
        <c:axId val="39029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42845"/>
        <c:crosses val="autoZero"/>
        <c:auto val="1"/>
        <c:lblAlgn val="ctr"/>
        <c:lblOffset val="100"/>
        <c:noMultiLvlLbl val="0"/>
      </c:catAx>
      <c:valAx>
        <c:axId val="53342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29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F2B-85CD-4FAB-A0A1-11993992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8ED-7962-4310-8E18-451518E0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131-472B-4B50-BDC7-30622A46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5A10-D68F-453B-BA57-DF99FCD1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442-0DF1-4D0C-BB8D-8F1B7317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9C36-C2AA-4991-80E8-99D4A9D7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3970-CFB1-4D94-AC9C-1D1E80FD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BE7-4119-4B98-8ED3-31E0C31D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A7B9-BBAA-4845-8A48-4A8D48C6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CC0D-EA7A-4CFC-9EAD-FFF42477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8FB4-E351-4B2B-B224-999E11B3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2869-39F6-4286-8B1B-36ADE885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EE7AF-165A-42A0-89FA-EB6DE47F44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