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930421"/>
        <c:axId val="12389778"/>
      </c:barChart>
      <c:catAx>
        <c:axId val="379304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89778"/>
        <c:crosses val="autoZero"/>
        <c:auto val="1"/>
        <c:lblAlgn val="ctr"/>
        <c:lblOffset val="100"/>
        <c:noMultiLvlLbl val="0"/>
      </c:catAx>
      <c:valAx>
        <c:axId val="123897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304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145D-AB70-4918-98CA-7FEC280C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395D-324A-4035-B3A4-570A9A28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501E-6471-4FC9-8CC9-648C2042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6AB1-998C-4AB6-97BE-A97E7E11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69D0-FBDA-4E3B-97A2-B0A377A8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2DBA-A45B-4EB6-8B8B-7EE0B651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6EAB-2154-4567-8464-69445581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1527-9C11-4740-BBBC-01D233F8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A1B7-72C4-4FEB-820C-83590738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D046-2F1E-421A-B284-D541A8FA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62CA-95CF-4540-8C45-7C6677A5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980B-0364-4CE5-AA48-FE74DF06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E6E44-9AA8-49B3-AE89-B63E1193B3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