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64855"/>
        <c:axId val="49564796"/>
      </c:barChart>
      <c:catAx>
        <c:axId val="11364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64796"/>
        <c:crosses val="autoZero"/>
        <c:auto val="1"/>
        <c:lblAlgn val="ctr"/>
        <c:lblOffset val="100"/>
        <c:noMultiLvlLbl val="0"/>
      </c:catAx>
      <c:valAx>
        <c:axId val="49564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64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3D9-9651-406A-BB8D-EEDB442B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814-817F-43A5-B573-AA5420AE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96B-0B35-4CBA-8D97-CF2A54B5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CD0-B728-43CD-A6B2-983A4DA7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E3A-C5EC-4352-A870-25840C7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4F8-DAB1-4A0B-9788-EEC77F0B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6C8-10D1-4917-8F02-183A4DAE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BC2-09F2-411D-9F46-F88165B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477-1AFD-4C81-A22D-4572233B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444-A52D-48C6-921E-74387A22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1EE-1791-4CF1-B4C9-585F4FF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723-F9AB-4DEA-922E-07E0FC0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9E599-2BBF-4C8C-B2D9-F1E69D4479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