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299830"/>
        <c:axId val="99414713"/>
      </c:barChart>
      <c:catAx>
        <c:axId val="312998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14713"/>
        <c:crosses val="autoZero"/>
        <c:auto val="1"/>
        <c:lblAlgn val="ctr"/>
        <c:lblOffset val="100"/>
        <c:noMultiLvlLbl val="0"/>
      </c:catAx>
      <c:valAx>
        <c:axId val="994147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998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A638-1BA7-4AD4-94A4-7D3F85FF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FA9-8143-4CE9-ABE9-2C78E632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679E-D621-4C8C-A464-BDC38816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AFC9-F052-4E7B-AE32-D45595FF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CAA7-906E-442B-A0F6-9DA5B1D6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4511-E592-4348-87A1-29A6C318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DFC3-42C8-4BDE-BBEA-EA24EA89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9BFC-4C27-4286-A7C3-B4CC4788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4514-23FB-4153-A276-40BC3802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A537-F857-4F5B-B864-E5204791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E952-ED13-4241-91EC-FFAFEA5F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C6F6-0A79-4683-9CD7-415B8E3C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3B48D-3C06-4058-A1DB-76D7414F0A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