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576045"/>
        <c:axId val="26747416"/>
      </c:barChart>
      <c:catAx>
        <c:axId val="525760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747416"/>
        <c:crosses val="autoZero"/>
        <c:auto val="1"/>
        <c:lblAlgn val="ctr"/>
        <c:lblOffset val="100"/>
        <c:noMultiLvlLbl val="0"/>
      </c:catAx>
      <c:valAx>
        <c:axId val="267474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5760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7E43-C6FF-42FB-9796-8B0EFE2AC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13A7-26F1-4FB9-9457-DE101EB6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CFB8-8EC3-47D0-A988-2CB034BCA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0874-1233-4759-B515-1773DC615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F9FB-C964-47AC-ADF7-697A4C1B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DF5D-D4D6-428B-8AEE-B1B273A6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6F8E-12F3-447A-85B7-A49AAEED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A0C2-5766-40D9-BA5D-8C62FD91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7D21-8A3E-4F23-87C8-CBE7925A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0AC8-C8BE-4098-8809-C41DE6F8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B0C3-74E3-4109-B92D-D4FD0F02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1AE5-C8DA-4506-95D6-0F24ECB1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B0D2A-F3B6-4160-941E-21ECE9EC5C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