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76132"/>
        <c:axId val="44173427"/>
      </c:barChart>
      <c:catAx>
        <c:axId val="32576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73427"/>
        <c:crosses val="autoZero"/>
        <c:auto val="1"/>
        <c:lblAlgn val="ctr"/>
        <c:lblOffset val="100"/>
        <c:noMultiLvlLbl val="0"/>
      </c:catAx>
      <c:valAx>
        <c:axId val="44173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76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09D-2150-4970-83B6-10CB8EFC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0B4-8D6E-45FF-B7EC-242C2497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DF7-9DEB-4A17-978B-71B3234D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665-7FA5-47EE-B71B-915DF855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07A-D7C3-4EA9-80EE-3061F9D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AD1-30D9-4B0B-8469-575C14AF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61B-5FE4-4F83-9939-B5CFEF57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7D4-443A-43FB-8BA9-BF6C83D2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250-9D74-4C92-86DE-086091E8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B75-08D2-4598-BF9C-8745E3E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EC2-F95B-473F-AE20-2131B0D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B25-2D5A-409B-B51A-6B52033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EE143-E4BF-4E3D-917D-E05A7CD357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