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55924"/>
        <c:axId val="69033223"/>
      </c:barChart>
      <c:catAx>
        <c:axId val="84555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33223"/>
        <c:crosses val="autoZero"/>
        <c:auto val="1"/>
        <c:lblAlgn val="ctr"/>
        <c:lblOffset val="100"/>
        <c:noMultiLvlLbl val="0"/>
      </c:catAx>
      <c:valAx>
        <c:axId val="69033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5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C9D-B7A3-4C36-A74E-47CE2D42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9DF-C33B-4EA7-8182-D2478EFD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33C-FE99-48F1-BD10-5B4DF27E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56C-DD29-4DC8-B354-FAFE74B1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5B3-7F3E-4D3A-8AA7-7572B12F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741-E632-4AEE-BDAF-C16E461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90B-6A0D-465D-9331-2EA39AC8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7A3-A015-4182-8A3C-4EEBB098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C47-D423-4BA5-A80F-758ABF0A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8B9-4AA6-4303-AD2F-CF23E287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017-5CF7-453E-9E3D-A4ED6EE1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0EF-1B4E-48A6-846F-B823EE7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C6467-79ED-484A-A72E-DA61A3EC5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