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35789"/>
        <c:axId val="36774763"/>
      </c:barChart>
      <c:catAx>
        <c:axId val="58735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74763"/>
        <c:crosses val="autoZero"/>
        <c:auto val="1"/>
        <c:lblAlgn val="ctr"/>
        <c:lblOffset val="100"/>
        <c:noMultiLvlLbl val="0"/>
      </c:catAx>
      <c:valAx>
        <c:axId val="36774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35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7BD-C7F8-46DC-9793-9D582976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FAC-B9F8-49CE-A5A4-A58DA17D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01A-DE8A-427E-8620-1930C217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CC7-68A3-4551-8088-191F8711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F77-AFA2-4367-A7C2-C8E8135A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584-826B-4C55-A9C6-81A2D48F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6F3-3AD9-487E-80A2-A455A614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A8A-CCA7-4FE0-870D-5040CA41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6CC-5955-44BD-8753-E5AEDF05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8B5-55EA-43CB-A909-6481D05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5BED-1B52-45E5-AA73-8EABC068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971-1440-45C6-92FE-3248A71E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D810E-2202-408D-9D8A-F5BE94E76B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