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60584"/>
        <c:axId val="66296123"/>
      </c:barChart>
      <c:catAx>
        <c:axId val="44860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96123"/>
        <c:crosses val="autoZero"/>
        <c:auto val="1"/>
        <c:lblAlgn val="ctr"/>
        <c:lblOffset val="100"/>
        <c:noMultiLvlLbl val="0"/>
      </c:catAx>
      <c:valAx>
        <c:axId val="66296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60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986-0464-426B-B041-711BB0FC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1AA-1EE1-4DEC-8F27-44D1CB8B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6FB-DEC7-43EC-B772-7186C6DE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E4E-45D2-4078-BF61-70DA4879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4C8-A724-49E0-A58D-A95CBC8E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581-97FC-4E76-9825-C8F94B2A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67A-85D5-441C-A86F-A516E5D1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764-A0AC-4514-A83C-B1CBDF36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106-D6E9-4991-AEE9-E7685B17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6D6-1377-4FF3-A911-BCA0B7DD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59A-98C9-465B-99EC-9C519211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D1A-AF8C-4481-92C1-5346F32D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71D16-EB68-4FA7-8031-E9C9C37F9F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