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43666"/>
        <c:axId val="56260815"/>
      </c:barChart>
      <c:catAx>
        <c:axId val="55543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60815"/>
        <c:crosses val="autoZero"/>
        <c:auto val="1"/>
        <c:lblAlgn val="ctr"/>
        <c:lblOffset val="100"/>
        <c:noMultiLvlLbl val="0"/>
      </c:catAx>
      <c:valAx>
        <c:axId val="56260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43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989-C161-42AC-B918-FD7CFAA2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841-93A7-4637-BEFA-F8845236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DDE-04AC-4B22-83A8-99DB0C1D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08C-DC7C-4444-AC9E-104C5A86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386-1ABC-49F2-BD75-47C6B9FF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BE6-F2CB-4C59-B61F-97D9E21B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2A8-EACB-4305-8519-85064A5A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0F4-ED18-4E39-BEB8-78B5EE47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806-0CE6-440B-BD02-8846A1D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CAA-E159-427F-8DC3-1DFD0616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2B0-C867-4ED9-B3BB-36348226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B2F-6DAD-4294-A466-1998E68E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A4B21-BDEC-463A-A15C-73ED59753B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