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877978"/>
        <c:axId val="58137852"/>
      </c:barChart>
      <c:catAx>
        <c:axId val="37877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37852"/>
        <c:crosses val="autoZero"/>
        <c:auto val="1"/>
        <c:lblAlgn val="ctr"/>
        <c:lblOffset val="100"/>
        <c:noMultiLvlLbl val="0"/>
      </c:catAx>
      <c:valAx>
        <c:axId val="581378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77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06F8-09B9-42FF-97EC-B20D1567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9767-19B7-47CB-8EAC-6AD25F94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6514-E5EB-4383-AB84-106AE53C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3DC7-896E-459B-901D-E8D7DC70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DDB4-7157-49F8-9849-D4219A5A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ACF8-8F12-4378-9FD5-5298A7A0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77CC-7962-434C-8C4D-AB17CB29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F477-E61A-4DD6-83B9-F48B924D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0A35-B51E-49CB-94CA-433ECD13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C266-B99C-4BC9-B593-25448FA6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FF92-39F0-4417-A1C4-06DD26FD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47FF-8BA9-4F50-B65A-9D487710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EF803-ACC3-43B3-9813-7518364A04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